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518-9D60-4DF1-B252-97C0DF19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A46-94FF-4ADF-8906-3A43CCAE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495-BF32-4D94-BB6B-E7C2C981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C23-9193-42F3-88E5-8F095215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2B8-E66F-4F01-9605-CB7BD6DA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181-6E64-480A-A5AC-CB7BC125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628-3EFB-4E76-B0AC-77BE4C81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2D7-8A8E-4B81-A718-7DB6FB8D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1520"/>
            <a:ext cx="9261360" cy="14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545-8DE4-4ED7-B28F-AAC20183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9F7-46E3-4C21-B1C3-B122A9D6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228-4A4F-4F27-BE06-8C38DBE7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6D8-AC06-4C1A-8DFC-E9C5EC75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F9B9-0ABD-4F6E-8C19-F418DABC7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1"/>
          <p:cNvSpPr/>
          <p:nvPr/>
        </p:nvSpPr>
        <p:spPr>
          <a:xfrm>
            <a:off x="2951280" y="5313240"/>
            <a:ext cx="4370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2"/>
          <p:cNvSpPr/>
          <p:nvPr/>
        </p:nvSpPr>
        <p:spPr>
          <a:xfrm>
            <a:off x="2841840" y="7153200"/>
            <a:ext cx="460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"/>
          <p:cNvSpPr/>
          <p:nvPr/>
        </p:nvSpPr>
        <p:spPr>
          <a:xfrm>
            <a:off x="4874040" y="1096956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3" descr=""/>
          <p:cNvPicPr/>
          <p:nvPr/>
        </p:nvPicPr>
        <p:blipFill>
          <a:blip r:embed="rId1"/>
          <a:stretch/>
        </p:blipFill>
        <p:spPr>
          <a:xfrm>
            <a:off x="144360" y="1709640"/>
            <a:ext cx="10114200" cy="1833840"/>
          </a:xfrm>
          <a:prstGeom prst="rect">
            <a:avLst/>
          </a:prstGeom>
          <a:ln w="0">
            <a:noFill/>
          </a:ln>
        </p:spPr>
      </p:pic>
      <p:sp>
        <p:nvSpPr>
          <p:cNvPr id="4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3522960" y="1713384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5:24Z</dcterms:modified>
  <cp:revision>48</cp:revision>
  <dc:subject/>
  <dc:title>スライド 1</dc:title>
</cp:coreProperties>
</file>